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780-257A-488F-8D72-272D3B2B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2FB-D0AC-4F0D-B3BD-65569CA1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8A4-AC8E-4916-94AE-15385544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443-6C57-4545-BB70-0FE7A3A1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A7A4-1330-4963-B8A0-8D8F6527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3BBC-C824-4EAA-BF42-6D605A91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AB5F-E528-4F83-A3C6-67323E09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D21B-C66D-46A6-870E-FFDCE619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2BEE-E06B-45A4-8FFD-1DD2EA33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2A86-D328-4C17-B36E-252BEA75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FF79-6C2D-4545-BBD1-30ACE430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097-7BD6-439D-AE51-2CF1AAB5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13C7-BF29-425A-B34F-5F7216F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1BF2-1AAF-48E9-8BBB-538910EA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9B64-1257-49F8-90DB-96AAC627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B649-8805-4B81-A7E6-3CD0E537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FD08-35AB-4239-B627-E2B322D5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5C81-72D4-410B-831A-06F03649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5F18-8AEC-47E3-86B3-7DCFC230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0304-BBD8-468A-ACF6-95F024CF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962A-93F1-4DF0-843A-70999C38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6548-E2FB-4C4F-AAFE-AF5E789E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C3E-246C-4C78-A15D-EF664C7A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EF72-FBAE-45B9-A578-4D9573D5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C72A-82A4-49F5-AD8A-AC3CE25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02AE-F4B3-433B-A496-5EDFCD2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FC30-D095-4190-B00F-BAA3EC5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A93D-FC86-44DC-A57B-CF43C609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3902-4759-42A5-BD46-6821759F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9620-947F-498B-9324-4F1CFFA9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73EC-0824-47CA-98A6-D9BAC5F4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4BD9C-1AED-49BE-AD45-479AE804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E2536-A6DF-404E-8F4B-069D4052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177-1B7A-41CB-AB68-77997651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D6F41-54CA-4A86-8B0B-1A3264CD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7547-6CF1-452D-AD45-6EE7B8E2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EEE3-30B0-419A-AC42-1276AB57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589B6-DD94-456A-8030-0B11B50C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7413A-2711-45AB-B720-496C33D9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669E5-4FBF-4BF8-A3ED-7DD7128C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D35DD-F1F4-4F5F-8C9B-8E314B9B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4478-840A-41B9-A894-2F168D9A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8C9C-B50A-4A77-8F41-246F199D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E288-DE34-4ACC-886A-4238F789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735-7DF6-4871-81A1-52C8AED1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4B240-1EFB-4F6B-BA14-CDCB690D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9AAE5-5A77-4333-A668-18C7CAC0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9F7B4-9598-4310-9330-DCC364CD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74E75-F6E0-4909-92BB-CB172AAB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F2FB-C3F6-4043-A862-E4B69A82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EBB2B-15DC-41AC-9F73-041EED9F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0B406-DAA3-4EFF-A4FD-967C623D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00EAA-808F-4129-8BAA-5EDD6BA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B0BBC-68A0-4C79-9ECB-C172BCF6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DCC56-FDC2-43C3-8F83-37168067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E29-8861-47E5-A306-3F806BC0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913C1-C6CF-48D3-9A3D-D8CD1AB8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5136F-0EB8-40E2-AB98-6D424598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3E1E6-52F9-4EBF-818A-450701FA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72182-B93B-4353-9749-B6DA7335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06C0D-D21D-4837-A736-8A155597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D624B-E9A2-44B7-B112-0C0A41B9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DCAEE-4F80-4E10-8C9E-8DDD003B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3A576-5DE9-4CC6-8A3C-B5C17B4C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B4031-B094-4B8C-B794-62760FC1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DE285-9C89-4319-A32C-A7002DEB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333-68A7-4840-8AEC-8A651584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8F74A-9926-485B-91E9-D6688DF9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A7CC6-D9A4-427A-ACEC-BA28123C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D6BD0-3473-4FE8-BFD9-BF6A9B58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989D8-030C-44FC-B677-E8B995F3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2E596-50E6-47B2-A61A-9C41A956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74B8E-1EA9-4CB0-8E1E-13BFB7BA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EA298-5F2C-4C59-8324-40CDE84B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F5596-B601-435A-A244-84DADF4C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57666-B21D-4757-9BF2-7699ED59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47F85-D29D-4DDB-B1CD-4C79098A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B69-9A78-41D4-964B-52026E3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CFD50-1047-4B14-B30C-B2177546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4D375-DA01-4F23-AF7F-8E97582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6D572-4274-451D-92EC-E7FB0F0C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8E1EF-4D66-431B-88DC-A72E10B3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BEF3C-7E48-4536-B675-5523FD74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DE3-064B-456C-9C40-15A42EB6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BA25-2E21-461E-A54E-C777D267BE70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99C4-A0EB-4CDE-9F00-61FB3C0E7026}" type="slidenum">
              <a:rPr b="0" lang="en-CA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BA11-D1D7-483C-BE39-AB4D56E9D499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8819-27A3-4830-AC67-DEEBC0B89997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CB7D-E49E-4473-95E0-F316C4589EE2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3E6C-0DC1-4C3E-90D5-7CA98FED4D6A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B0EE-AB4F-410F-8C2B-A426FEFD0DD5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6b7d72"/>
                </a:solidFill>
                <a:latin typeface="Book Antiqua"/>
              </a:rPr>
              <a:t>A FUTURE IS YOURS TO GI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564b3c"/>
                </a:solidFill>
                <a:uFillTx/>
                <a:latin typeface="Century Gothic"/>
              </a:rPr>
              <a:t>There is a crisis in Ontario,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564b3c"/>
                </a:solidFill>
                <a:latin typeface="Century Gothic"/>
              </a:rPr>
              <a:t>EVERY 3 DAYS, SOMEONE IN THE PROVINCE DIES UNNECESSARILY </a:t>
            </a:r>
            <a:r>
              <a:rPr b="0" lang="en-CA" sz="4400" spc="-1" strike="noStrike">
                <a:solidFill>
                  <a:srgbClr val="ff0000"/>
                </a:solidFill>
                <a:latin typeface="Century Gothic"/>
              </a:rPr>
              <a:t>WHILE WAITING FOR AN ORGAN TRANSPLANT</a:t>
            </a:r>
            <a:endParaRPr b="0" lang="en-US" sz="4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6b7d72"/>
                </a:solidFill>
                <a:latin typeface="Book Antiqua"/>
              </a:rPr>
              <a:t>A FUTURE IS YOURS TO GI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 u="sng">
                <a:solidFill>
                  <a:srgbClr val="564b3c"/>
                </a:solidFill>
                <a:uFillTx/>
                <a:latin typeface="Century Gothic"/>
              </a:rPr>
              <a:t>At this very moment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entury Gothic"/>
              </a:rPr>
              <a:t>THERE ARE ALMOST </a:t>
            </a:r>
            <a:r>
              <a:rPr b="1" lang="en-CA" sz="3000" spc="-1" strike="noStrike">
                <a:solidFill>
                  <a:srgbClr val="ff0000"/>
                </a:solidFill>
                <a:latin typeface="Century Gothic"/>
              </a:rPr>
              <a:t>1700 ONTARIO RESIDENTS – </a:t>
            </a:r>
            <a:r>
              <a:rPr b="0" lang="en-CA" sz="3000" spc="-1" strike="noStrike">
                <a:solidFill>
                  <a:srgbClr val="000000"/>
                </a:solidFill>
                <a:latin typeface="Century Gothic"/>
              </a:rPr>
              <a:t>MEN, WOMEN AND CHILDREN, WHO ARE WAITING FOR A LIFE-SAVING ORGAN TRANSPLANT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entury Gothic"/>
              </a:rPr>
              <a:t>THE SAD REALITY IS THAT MANY DIE BEFORE A MATCHING ORGAN BECOMES AVAILABLE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6b7d72"/>
                </a:solidFill>
                <a:latin typeface="Book Antiqua"/>
              </a:rPr>
              <a:t>A FUTURE IS YOURS TO GI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564b3c"/>
                </a:solidFill>
                <a:uFillTx/>
                <a:latin typeface="Century Gothic"/>
              </a:rPr>
              <a:t>THE ORGAN DONATION RATE IN ONTARIO IS ON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Century Gothic"/>
              </a:rPr>
              <a:t>13 DONORS PER MILLION POPULATION, </a:t>
            </a:r>
            <a:r>
              <a:rPr b="0" lang="en-CA" sz="3200" spc="-1" strike="noStrike">
                <a:solidFill>
                  <a:srgbClr val="000000"/>
                </a:solidFill>
                <a:latin typeface="Century Gothic"/>
              </a:rPr>
              <a:t>LESS THAN HALF OF WHAT IT SHOULD BE.  THAT MEANS THAT PEOPLE WHO COULD LIVE- IF THEY HAD A NEW HEART, LUNG, LIVER, KIDNEY, PANCREAS OR SMALL BOWEL- SIT ON A WAITING LIST, HOPING FOR A DONOR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971280" y="155736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entury Gothic"/>
              </a:rPr>
              <a:t>A CLOSER LOOK AT ORGAN DONATION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Book Antiqua"/>
              </a:rPr>
              <a:t>ONE LIFE… MANY GIFTS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8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000000"/>
                </a:solidFill>
                <a:latin typeface="Book Antiqua"/>
              </a:rPr>
              <a:t>ONE LIFE… MANY GIF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Every day, Ontario families experiencing heartbreak are asked about donating the organs and tissues of their loved ones who have just died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It takes great courage to reach out and help someone else when you are in deep distress yourself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Sometimes, families choose not to donat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000000"/>
                </a:solidFill>
                <a:latin typeface="Book Antiqua"/>
              </a:rPr>
              <a:t>ONE LIFE…MANY GIF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It may be because they don’t understand the process, because they had never discussed donation, or because they did not know the wishes of their loved on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ONE LIFE…MANY GIFTS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WHAT DOES THIS PROGRAM OFFER??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Dispels the myths that may prevent someone from considering donat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Increases knowledge and understanding about donation and the success of transplantat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Encourages family members to discuss this important topic and communicate their wishes to one anothe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ONE LIFE…MANY GIFTS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WHAT DOES THIS PROGRAM OFFER??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Gothic"/>
              </a:rPr>
              <a:t>MOST IMPORTANTLY THIS PROGRAM ASSISTS STUDENTS IN MAKING INFORMED DECISIONS ABOUT ORGAN DONAT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2:19:34Z</dcterms:created>
  <dc:creator>Jason</dc:creator>
  <dc:description/>
  <dc:language>en-US</dc:language>
  <cp:lastModifiedBy>Jason</cp:lastModifiedBy>
  <dcterms:modified xsi:type="dcterms:W3CDTF">2010-11-09T04:25:37Z</dcterms:modified>
  <cp:revision>3</cp:revision>
  <dc:subject/>
  <dc:title>One life… many gifts</dc:title>
</cp:coreProperties>
</file>